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75A1-A62D-4A3A-9854-8CD74D87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B661-F0DF-4B9C-A469-A84D4B50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B998-9F0A-4E4C-BA0B-75FAB17B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A9D6-D747-45AA-8107-89023F39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742F-F1BE-4CE1-81ED-41A9E25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269C-1B09-474D-BC30-EA704CE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9CF4-ACE6-4788-8C3A-3247E9C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BA11-7C17-46B2-B8EE-9722004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ACD7-9CCF-40DB-A630-1E5785D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7000-84D9-4D31-87E3-0F821FB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E506-5F75-40CA-9F1A-28AE4E5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4EA0-C23B-43AE-A046-640A400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EEC2-E7DC-4B29-9118-04836084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42080" y="64580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6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F0B1-C9A3-4DBE-9D66-7A907355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ne 26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echnical Advisory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erican Electric Pow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rvice Corpo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sidio Area Reliability Improvements Projec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mes Teixei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, Regional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47760" y="825480"/>
            <a:ext cx="6099120" cy="5292720"/>
            <a:chOff x="347760" y="825480"/>
            <a:chExt cx="6099120" cy="5292720"/>
          </a:xfrm>
        </p:grpSpPr>
        <p:grpSp>
          <p:nvGrpSpPr>
            <p:cNvPr id="93" name=""/>
            <p:cNvGrpSpPr/>
            <p:nvPr/>
          </p:nvGrpSpPr>
          <p:grpSpPr>
            <a:xfrm>
              <a:off x="347760" y="825480"/>
              <a:ext cx="6099120" cy="5292720"/>
              <a:chOff x="347760" y="825480"/>
              <a:chExt cx="6099120" cy="5292720"/>
            </a:xfrm>
          </p:grpSpPr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760" y="825480"/>
                <a:ext cx="6099120" cy="529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4280" y="4219560"/>
                <a:ext cx="2819520" cy="1835280"/>
              </a:xfrm>
              <a:prstGeom prst="rect">
                <a:avLst/>
              </a:prstGeom>
              <a:ln w="158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3373560" y="5646600"/>
              <a:ext cx="154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 algn="ctr"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sidio Area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089240" y="5473800"/>
              <a:ext cx="140040" cy="2030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scription of Recommen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616800" y="927000"/>
            <a:ext cx="25272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ll a second 138/69 kV autotransformer at Alamito Creek substation in 2008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:  $4,000,00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ll two 2.4 MW NaS battery units at Presidio in 2009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:  $15,000,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lace existing 69 kV line with new 69 kV line designed for 138 kV operation from Alamito Creek to Chinati to Presidio in 2012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:  $48,000,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TOTAL COS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7,000,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990720"/>
            <a:ext cx="170172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9840" y="2451240"/>
            <a:ext cx="529920" cy="533160"/>
          </a:xfrm>
          <a:prstGeom prst="ellipse">
            <a:avLst/>
          </a:prstGeom>
          <a:solidFill>
            <a:srgbClr val="ffff0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9120" y="4876920"/>
            <a:ext cx="530280" cy="533160"/>
          </a:xfrm>
          <a:prstGeom prst="ellipse">
            <a:avLst/>
          </a:prstGeom>
          <a:solidFill>
            <a:srgbClr val="ffff0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68480" y="2730600"/>
            <a:ext cx="1028160" cy="2463840"/>
            <a:chOff x="1968480" y="2730600"/>
            <a:chExt cx="1028160" cy="2463840"/>
          </a:xfrm>
        </p:grpSpPr>
        <p:sp>
          <p:nvSpPr>
            <p:cNvPr id="104" name=""/>
            <p:cNvSpPr/>
            <p:nvPr/>
          </p:nvSpPr>
          <p:spPr>
            <a:xfrm flipH="1">
              <a:off x="2488680" y="2730600"/>
              <a:ext cx="507960" cy="812880"/>
            </a:xfrm>
            <a:prstGeom prst="line">
              <a:avLst/>
            </a:prstGeom>
            <a:ln w="114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63480" y="3530880"/>
              <a:ext cx="127080" cy="444240"/>
            </a:xfrm>
            <a:prstGeom prst="line">
              <a:avLst/>
            </a:prstGeom>
            <a:ln w="114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47840" y="3949920"/>
              <a:ext cx="304560" cy="304560"/>
            </a:xfrm>
            <a:prstGeom prst="line">
              <a:avLst/>
            </a:prstGeom>
            <a:ln w="114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68480" y="4280040"/>
              <a:ext cx="279360" cy="914400"/>
            </a:xfrm>
            <a:prstGeom prst="line">
              <a:avLst/>
            </a:prstGeom>
            <a:ln w="114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Reliability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711360"/>
            <a:ext cx="815328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 a second 138/69-kV autotransformer at Alamito Creek Sub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o meet NERC criteria under maintenance conditions during load periods when maintenance is normally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 a 4.8 MW NaS battery at Presidio Subs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can not be rebuilt until end of 2010 at the earliest and voltage criteria exceeded in 2009 pre and post-conting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ttery is a short term solution that allows area voltages to meet NERC/ERCOT pre and post-contingency voltage limits as soon as possible and can serve most of the area load when the 69-kV line in not avail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ebuild of 69 kV line to be delayed until 2012 because  battery alone can provide adequate voltage support until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Reliability Analysis continu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new Alamito Creek-Presidio 69-kV line (built for 138-kV serv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long term solution and capacity for expa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line was built in 1948 as 33 kV line using conductor that is used for residential servic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construction is all wooden and failing at an “unacceptable ra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rough terrain makes maintenance costly and leng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es on existing line adds to low voltag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approximately 2 times greater tha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s equal to 1.5 MW to serve 6.8 MW of load (22% compared to system wide 2.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to meet NERC criteria and provide reliable transmission service to rural communities as mandated in PUR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s Considered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68280" y="679320"/>
            <a:ext cx="834408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ation of a small asynchronous tie with C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1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W VSC asynchronous tie would have comparable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to take two additional years to install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t be scaled up to a size that would be more commercially significant in the future.  It would have to be completely replac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00 MW VFT asynchronous tie would be more than twice the cost and still not be in place for an additional two years or long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ation of 10 MW Diesel Gen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ed transmission provider can not provide generation services such as RMR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services must be provided by an unregulated market particip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load transfer to CF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e load in the area to be subject to outages before and after block load transfer to CFE occu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ock load tie to CFE is unable to serve the entire lo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s Considered Continu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 of Static Capac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3.6 MVar banks had to be installed at both Presidio and Chinati to relieve post-contingency voltage vio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r flow opposite to MW flow causes thermal overload of Alamito to Bryant Ranch se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ddress power quality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keholder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5120" y="1066680"/>
            <a:ext cx="7480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keholder review period for this project was held in April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received include (from one entity)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67 M for 10 MW load compared to ERCOT average $ 2 M for 10 MW (accuracy of calculation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ternatives such as Diesel Gen, DC Ti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edent for radial load service could increase transmission costs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upport for the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be requesting that the Presidio Area Reliability Improvements project be endorsed by the ERCOT Board Of Dire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828800" y="3124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Le</dc:creator>
  <dc:description/>
  <dc:language>en-US</dc:language>
  <cp:lastModifiedBy>jteixeira</cp:lastModifiedBy>
  <dcterms:modified xsi:type="dcterms:W3CDTF">2008-06-23T18:07:21Z</dcterms:modified>
  <cp:revision>69</cp:revision>
  <dc:subject/>
  <dc:title>Tyler Grande RPG Review</dc:title>
</cp:coreProperties>
</file>